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1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31.wmf" ContentType="image/x-wmf"/>
  <Override PartName="/ppt/media/image29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46FF-DC18-4C21-9FA2-A6F282C7A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4B87-D46E-4C65-A2E2-54C14FD6B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72DB-AA45-4637-8D3B-F4A58B0D5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D8B7-3F00-466D-89B5-2D48DEEAD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4BA1-A901-40D9-83EB-11604840C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A47C-6C01-41A2-9D7C-8002C386E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0E38-FECA-477B-AA17-E3F62E6CB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BCB4-DEE0-4579-8B3E-0784338A0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3453-8064-4B7A-BADF-841F97F47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84F6-FB0B-4ECC-9D03-AB51C58A2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F2A0-7AC9-44F8-9C68-0745EDA65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F2C8-7811-41D3-91FA-585184C95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FE11F-1FC2-4162-8C4A-484730FF2C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8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9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0.wmf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3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4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5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6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7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8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9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20.wmf"/><Relationship Id="rId2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5.wmf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9.wmf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3.wmf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4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8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39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40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35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41.wmf"/><Relationship Id="rId2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2 - 8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Logical Reasoning:Pro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219320"/>
            <a:ext cx="8915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rove the theorem using the basic axioms of algebra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4920" y="1752480"/>
          <a:ext cx="7223040" cy="6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752480"/>
                    <a:ext cx="722304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457200" y="2438280"/>
          <a:ext cx="3632040" cy="592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2438280"/>
                    <a:ext cx="363204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4572000" y="2514600"/>
          <a:ext cx="1295280" cy="504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572000" y="2514600"/>
                    <a:ext cx="129528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228600" y="2895480"/>
          <a:ext cx="2898720" cy="1446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28600" y="2895480"/>
                    <a:ext cx="2898720" cy="144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4572000" y="3429000"/>
          <a:ext cx="4097160" cy="5414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572000" y="3429000"/>
                    <a:ext cx="409716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914400" y="4419720"/>
          <a:ext cx="1709640" cy="5490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914400" y="4419720"/>
                    <a:ext cx="1709640" cy="54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4572000" y="4419720"/>
          <a:ext cx="3855960" cy="4395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572000" y="4419720"/>
                    <a:ext cx="3855960" cy="43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1066680" y="5410080"/>
          <a:ext cx="1319400" cy="5493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066680" y="5410080"/>
                    <a:ext cx="131940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4572000" y="5410080"/>
          <a:ext cx="3924360" cy="5428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4572000" y="5410080"/>
                    <a:ext cx="392436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2 - 8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3" name=""/>
          <p:cNvSpPr/>
          <p:nvPr/>
        </p:nvSpPr>
        <p:spPr>
          <a:xfrm>
            <a:off x="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Logical Reasoning:Pro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5360" y="1219320"/>
            <a:ext cx="8915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rove the theorem using the basic axioms of algebra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28600" y="1752480"/>
          <a:ext cx="6326280" cy="6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752480"/>
                    <a:ext cx="632628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1523880" y="2514600"/>
          <a:ext cx="2438640" cy="520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3880" y="2514600"/>
                    <a:ext cx="243864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5410080" y="2514600"/>
          <a:ext cx="1295640" cy="504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410080" y="2514600"/>
                    <a:ext cx="129564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762120" y="3276720"/>
          <a:ext cx="3962160" cy="6602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62120" y="3276720"/>
                    <a:ext cx="396216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410080" y="3429000"/>
          <a:ext cx="3733920" cy="5097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410080" y="3429000"/>
                    <a:ext cx="373392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0" y="4094280"/>
          <a:ext cx="5486400" cy="7156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0" y="4094280"/>
                    <a:ext cx="5486400" cy="71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410080" y="4191120"/>
          <a:ext cx="3733920" cy="4507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410080" y="4191120"/>
                    <a:ext cx="373392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1415880" y="4952880"/>
          <a:ext cx="2602080" cy="5493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415880" y="4952880"/>
                    <a:ext cx="260208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5303880" y="5003640"/>
          <a:ext cx="3754440" cy="4413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303880" y="5003640"/>
                    <a:ext cx="375444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2057400" y="5791320"/>
          <a:ext cx="1190520" cy="54900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2057400" y="5791320"/>
                    <a:ext cx="1190520" cy="54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5321160" y="5791320"/>
          <a:ext cx="3822840" cy="54432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5321160" y="5791320"/>
                    <a:ext cx="3822840" cy="54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2 - 8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8" name=""/>
          <p:cNvSpPr/>
          <p:nvPr/>
        </p:nvSpPr>
        <p:spPr>
          <a:xfrm>
            <a:off x="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Logical Reasoning:Pro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5360" y="1219320"/>
            <a:ext cx="8915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nd a counterexample to show that the statement is not tru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533520" y="2133720"/>
          <a:ext cx="4187880" cy="804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2133720"/>
                    <a:ext cx="4187880" cy="80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1295280" y="3048120"/>
          <a:ext cx="3337200" cy="803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95280" y="3048120"/>
                    <a:ext cx="3337200" cy="80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1752480" y="3886200"/>
          <a:ext cx="2183040" cy="717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752480" y="3886200"/>
                    <a:ext cx="218304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2438280" y="4572000"/>
          <a:ext cx="1492200" cy="717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438280" y="4572000"/>
                    <a:ext cx="149220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8" name=""/>
          <p:cNvGrpSpPr/>
          <p:nvPr/>
        </p:nvGrpSpPr>
        <p:grpSpPr>
          <a:xfrm>
            <a:off x="228600" y="5145120"/>
            <a:ext cx="8915400" cy="1044000"/>
            <a:chOff x="228600" y="5145120"/>
            <a:chExt cx="8915400" cy="1044000"/>
          </a:xfrm>
        </p:grpSpPr>
        <p:sp>
          <p:nvSpPr>
            <p:cNvPr id="99" name=""/>
            <p:cNvSpPr/>
            <p:nvPr/>
          </p:nvSpPr>
          <p:spPr>
            <a:xfrm>
              <a:off x="228600" y="5181480"/>
              <a:ext cx="891540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Because                 , you have shown one case in which the rule is false.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0" name=""/>
            <p:cNvGraphicFramePr/>
            <p:nvPr/>
          </p:nvGraphicFramePr>
          <p:xfrm>
            <a:off x="1828800" y="5145120"/>
            <a:ext cx="1320840" cy="63324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01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1828800" y="5145120"/>
                      <a:ext cx="1320840" cy="633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2 - 8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Logical Reasoning:Pro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5360" y="1219320"/>
            <a:ext cx="8915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nd a counterexample to show that the statement is not tru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57200" y="2286000"/>
          <a:ext cx="3333600" cy="54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286000"/>
                    <a:ext cx="333360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1219320" y="3200400"/>
          <a:ext cx="2481120" cy="504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19320" y="3200400"/>
                    <a:ext cx="248112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1600200" y="4038480"/>
          <a:ext cx="1363680" cy="505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00200" y="4038480"/>
                    <a:ext cx="136368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1" name=""/>
          <p:cNvGrpSpPr/>
          <p:nvPr/>
        </p:nvGrpSpPr>
        <p:grpSpPr>
          <a:xfrm>
            <a:off x="228600" y="5181480"/>
            <a:ext cx="8915400" cy="1007640"/>
            <a:chOff x="228600" y="5181480"/>
            <a:chExt cx="8915400" cy="1007640"/>
          </a:xfrm>
        </p:grpSpPr>
        <p:sp>
          <p:nvSpPr>
            <p:cNvPr id="112" name=""/>
            <p:cNvSpPr/>
            <p:nvPr/>
          </p:nvSpPr>
          <p:spPr>
            <a:xfrm>
              <a:off x="228600" y="5181480"/>
              <a:ext cx="891540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Because                 , you have shown one case in which the rule is false.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3" name=""/>
            <p:cNvGraphicFramePr/>
            <p:nvPr/>
          </p:nvGraphicFramePr>
          <p:xfrm>
            <a:off x="1886040" y="5219640"/>
            <a:ext cx="1206360" cy="4827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14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886040" y="5219640"/>
                      <a:ext cx="1206360" cy="48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2 - 8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Logical Reasoning:Pro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5360" y="1219320"/>
            <a:ext cx="8915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nd a counterexample to show that the statement is not tru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77720" y="2286000"/>
          <a:ext cx="3291120" cy="54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7720" y="2286000"/>
                    <a:ext cx="329112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1219320" y="3200400"/>
          <a:ext cx="2481120" cy="504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19320" y="3200400"/>
                    <a:ext cx="248112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1536840" y="4038480"/>
          <a:ext cx="1492200" cy="505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536840" y="4038480"/>
                    <a:ext cx="149220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4" name=""/>
          <p:cNvGrpSpPr/>
          <p:nvPr/>
        </p:nvGrpSpPr>
        <p:grpSpPr>
          <a:xfrm>
            <a:off x="228600" y="5181480"/>
            <a:ext cx="8915400" cy="1007640"/>
            <a:chOff x="228600" y="5181480"/>
            <a:chExt cx="8915400" cy="1007640"/>
          </a:xfrm>
        </p:grpSpPr>
        <p:sp>
          <p:nvSpPr>
            <p:cNvPr id="125" name=""/>
            <p:cNvSpPr/>
            <p:nvPr/>
          </p:nvSpPr>
          <p:spPr>
            <a:xfrm>
              <a:off x="228600" y="5181480"/>
              <a:ext cx="891540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Because                 , you have shown one case in which the rule is false.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6" name=""/>
            <p:cNvGraphicFramePr/>
            <p:nvPr/>
          </p:nvGraphicFramePr>
          <p:xfrm>
            <a:off x="1830240" y="5219640"/>
            <a:ext cx="1319400" cy="4827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27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830240" y="5219640"/>
                      <a:ext cx="1319400" cy="48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2 - 8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Logical Reasoning:Pro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5360" y="1219320"/>
            <a:ext cx="8915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Use an indirect proof to prove that the conclusion is tru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380880" y="2209680"/>
          <a:ext cx="6069240" cy="6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2209680"/>
                    <a:ext cx="606924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990720" y="3733920"/>
          <a:ext cx="1280880" cy="561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90720" y="3733920"/>
                    <a:ext cx="128088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380880" y="4343400"/>
          <a:ext cx="2567160" cy="547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80880" y="4343400"/>
                    <a:ext cx="256716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228600" y="2666880"/>
            <a:ext cx="8915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Times New Roman"/>
              </a:rPr>
              <a:t>Assume the conclusion is false and contradict the given statement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048120" y="3733920"/>
          <a:ext cx="6095880" cy="542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048120" y="3733920"/>
                    <a:ext cx="609588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4110120" y="4419720"/>
          <a:ext cx="3971880" cy="5428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110120" y="4419720"/>
                    <a:ext cx="397188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380880" y="5029200"/>
          <a:ext cx="2567160" cy="5475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80880" y="5029200"/>
                    <a:ext cx="256716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4343400" y="5105520"/>
          <a:ext cx="3835440" cy="4413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343400" y="5105520"/>
                    <a:ext cx="383544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6" name=""/>
          <p:cNvGrpSpPr/>
          <p:nvPr/>
        </p:nvGrpSpPr>
        <p:grpSpPr>
          <a:xfrm>
            <a:off x="228600" y="5410080"/>
            <a:ext cx="8915400" cy="1464480"/>
            <a:chOff x="228600" y="5410080"/>
            <a:chExt cx="8915400" cy="1464480"/>
          </a:xfrm>
        </p:grpSpPr>
        <p:sp>
          <p:nvSpPr>
            <p:cNvPr id="147" name=""/>
            <p:cNvSpPr/>
            <p:nvPr/>
          </p:nvSpPr>
          <p:spPr>
            <a:xfrm>
              <a:off x="228600" y="5410080"/>
              <a:ext cx="8915400" cy="14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990099"/>
                  </a:solidFill>
                  <a:latin typeface="Times New Roman"/>
                </a:rPr>
                <a:t>This statement contradicts the original statement                  </a:t>
              </a:r>
              <a:r>
                <a:rPr b="1" lang="en-US" sz="3000" spc="-1" strike="noStrike">
                  <a:solidFill>
                    <a:srgbClr val="990099"/>
                  </a:solidFill>
                  <a:latin typeface="Times New Roman"/>
                </a:rPr>
                <a:t>	</a:t>
              </a:r>
              <a:r>
                <a:rPr b="1" lang="en-US" sz="3000" spc="-1" strike="noStrike">
                  <a:solidFill>
                    <a:srgbClr val="990099"/>
                  </a:solidFill>
                  <a:latin typeface="Times New Roman"/>
                </a:rPr>
                <a:t>	</a:t>
              </a:r>
              <a:r>
                <a:rPr b="1" lang="en-US" sz="3000" spc="-1" strike="noStrike">
                  <a:solidFill>
                    <a:srgbClr val="990099"/>
                  </a:solidFill>
                  <a:latin typeface="Times New Roman"/>
                </a:rPr>
                <a:t>  . Therefore, it is impossible that              . Therefore              is true.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8" name=""/>
            <p:cNvGraphicFramePr/>
            <p:nvPr/>
          </p:nvGraphicFramePr>
          <p:xfrm>
            <a:off x="304920" y="5878440"/>
            <a:ext cx="2209680" cy="47160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149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304920" y="5878440"/>
                      <a:ext cx="2209680" cy="47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0" name=""/>
            <p:cNvGraphicFramePr/>
            <p:nvPr/>
          </p:nvGraphicFramePr>
          <p:xfrm>
            <a:off x="7620120" y="5867280"/>
            <a:ext cx="1141200" cy="501840"/>
          </p:xfrm>
          <a:graphic>
            <a:graphicData uri="http://schemas.openxmlformats.org/presentationml/2006/ole">
              <p:oleObj r:id="rId18" spid="">
                <p:embed/>
                <p:pic>
                  <p:nvPicPr>
                    <p:cNvPr id="151" name="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7620120" y="5867280"/>
                      <a:ext cx="1141200" cy="50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2" name=""/>
            <p:cNvGraphicFramePr/>
            <p:nvPr/>
          </p:nvGraphicFramePr>
          <p:xfrm>
            <a:off x="2057400" y="6454800"/>
            <a:ext cx="990720" cy="403200"/>
          </p:xfrm>
          <a:graphic>
            <a:graphicData uri="http://schemas.openxmlformats.org/presentationml/2006/ole">
              <p:oleObj r:id="rId20" spid="">
                <p:embed/>
                <p:pic>
                  <p:nvPicPr>
                    <p:cNvPr id="153" name="" descr="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>
                      <a:off x="2057400" y="6454800"/>
                      <a:ext cx="990720" cy="40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2 - 8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Logical Reasoning:Pro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6T13:07:38Z</dcterms:created>
  <dc:creator>Don Helms</dc:creator>
  <dc:description/>
  <dc:language>en-US</dc:language>
  <cp:lastModifiedBy>CCSS</cp:lastModifiedBy>
  <dcterms:modified xsi:type="dcterms:W3CDTF">2002-04-18T14:19:17Z</dcterms:modified>
  <cp:revision>77</cp:revision>
  <dc:subject/>
  <dc:title>No Slide Title</dc:title>
</cp:coreProperties>
</file>